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A4F-0109-4398-BEFB-5F70AD40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5B6-09E6-4AEA-A200-EED45056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D66-25CD-47F1-B725-E83D7170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982-7035-44F3-A9D0-D4A8DEB7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749-E6E8-4038-A66E-2B741D4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D3F-3357-4284-8F2C-E3F6080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778-9934-44B0-9D32-CD9A3FD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8FB-103C-41B7-80FE-55C9983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BDD-0118-4483-AA09-033E846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EA4-4C86-434D-9CCE-9CEEE65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26D-4AB3-4D82-B0D0-763B849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585-2EF4-4F2F-BDAF-5D9590E6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CE9-755F-49D0-B5C5-12A2CC44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o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557360"/>
            <a:ext cx="3292560" cy="46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la adopción y el deseo de sa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úsque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voca la incertidumbre sobre la identidad, y la búsqueda obsesiva haci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ác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7720" y="2133720"/>
            <a:ext cx="32227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búsqueda finaliza siendo perjudicado a el mismo, sientiendose así culp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ja de mu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4-17T13:52:20Z</dcterms:modified>
  <cp:revision>4</cp:revision>
  <dc:subject/>
  <dc:title>Diapositiva 1</dc:title>
</cp:coreProperties>
</file>